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10.png" ContentType="image/pn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E3AB-E0CA-4320-AC63-E8D6FB7336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E558-89B9-40FB-8DD3-D663361A6E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3151-5649-4253-BCCD-E9A86255A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CFB0-9631-4F30-B5A7-EE95849C5A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335-C4C2-403C-BA09-F314BBE0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631-0C3E-4144-90E3-FE5621D3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C1A-9167-47F1-895A-96AFF70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8BA-AACC-4ABD-BE24-8838B574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A3D-6616-4967-B9C9-CFA09DEE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008-C211-4DEB-A503-C12562C2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8FD-8C1E-4CD2-8EBE-F15D1D85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B4B-C2D8-49EC-BA56-13F5F4F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A38-85E3-4976-89BF-6C0F4E06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ACE-0BD8-4987-8DED-E00CDEF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930-2DBE-41BE-A741-D8EC3CB4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70D-3623-41AE-BCEE-35E7584F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B988-B43C-4E0F-BC8C-7B231B87D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2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Марко Вовч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3995640" y="530280"/>
            <a:ext cx="2619360" cy="31798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-4680" y="0"/>
            <a:ext cx="21081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3"/>
          <a:stretch/>
        </p:blipFill>
        <p:spPr>
          <a:xfrm>
            <a:off x="6948360" y="0"/>
            <a:ext cx="2098800" cy="6826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448080" y="4932360"/>
            <a:ext cx="343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2 грудня 1833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серпня 19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2700360" y="5805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дготувала вчитель української мови та літератури Тернопільської ЗОШ№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удома В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780000" y="260280"/>
            <a:ext cx="511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Історичні повісті та оповідання для дітей «Кармелюк», «Невільничка», «Маруся» ще за життя Марка Вовчка здобули широку популярність. Повість «Маруся», наприклад, була перекладена кількома європейськими мовами. В переробленому П.-Ж. Сталем вигляді вона стала улюбленою дитячою книжкою у Франції, відзначена премією французької академії і рекомендована міністерством освіти Франції для шкільних бібліоте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2075040" y="79200"/>
            <a:ext cx="1763640" cy="2549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41400" y="50760"/>
            <a:ext cx="2082600" cy="6770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3"/>
          <a:stretch/>
        </p:blipFill>
        <p:spPr>
          <a:xfrm>
            <a:off x="2124000" y="3819600"/>
            <a:ext cx="2373480" cy="2889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5076720" y="494172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йвизначніша історична  повість-казка— «Кармелю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2124000" y="236520"/>
            <a:ext cx="219240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2"/>
          <a:stretch/>
        </p:blipFill>
        <p:spPr>
          <a:xfrm>
            <a:off x="4594320" y="596880"/>
            <a:ext cx="2082600" cy="28796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3"/>
          <a:stretch/>
        </p:blipFill>
        <p:spPr>
          <a:xfrm>
            <a:off x="6885000" y="404640"/>
            <a:ext cx="211932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4"/>
          <a:stretch/>
        </p:blipFill>
        <p:spPr>
          <a:xfrm>
            <a:off x="2124000" y="3860640"/>
            <a:ext cx="4497480" cy="2752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"/>
          <p:cNvPicPr/>
          <p:nvPr/>
        </p:nvPicPr>
        <p:blipFill>
          <a:blip r:embed="rId5"/>
          <a:stretch/>
        </p:blipFill>
        <p:spPr>
          <a:xfrm>
            <a:off x="6757920" y="4086360"/>
            <a:ext cx="2220840" cy="23018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"/>
          <p:cNvPicPr/>
          <p:nvPr/>
        </p:nvPicPr>
        <p:blipFill>
          <a:blip r:embed="rId6"/>
          <a:stretch/>
        </p:blipFill>
        <p:spPr>
          <a:xfrm>
            <a:off x="0" y="14400"/>
            <a:ext cx="210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25560" y="0"/>
            <a:ext cx="21096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"/>
          <p:cNvPicPr/>
          <p:nvPr/>
        </p:nvPicPr>
        <p:blipFill>
          <a:blip r:embed="rId2"/>
          <a:stretch/>
        </p:blipFill>
        <p:spPr>
          <a:xfrm>
            <a:off x="4253040" y="106200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"/>
          <p:cNvPicPr/>
          <p:nvPr/>
        </p:nvPicPr>
        <p:blipFill>
          <a:blip r:embed="rId3"/>
          <a:stretch/>
        </p:blipFill>
        <p:spPr>
          <a:xfrm>
            <a:off x="4253040" y="2901960"/>
            <a:ext cx="1131840" cy="1735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Валентина\Desktop\0010-013-Oznaki-romantizmu.jpg"/>
          <p:cNvPicPr/>
          <p:nvPr/>
        </p:nvPicPr>
        <p:blipFill>
          <a:blip r:embed="rId4"/>
          <a:stretch/>
        </p:blipFill>
        <p:spPr>
          <a:xfrm>
            <a:off x="6012000" y="1173240"/>
            <a:ext cx="2857320" cy="2017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Валентина\Desktop\0011-014-Kompozitsja-tvoru.jpg"/>
          <p:cNvPicPr/>
          <p:nvPr/>
        </p:nvPicPr>
        <p:blipFill>
          <a:blip r:embed="rId5"/>
          <a:stretch/>
        </p:blipFill>
        <p:spPr>
          <a:xfrm>
            <a:off x="5881680" y="3860640"/>
            <a:ext cx="311940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Валентина\Desktop\0007-011-Vddanst-bezmezhnomu-kokhannju-ta-pochuttja-vdpovdalnost-v.jpg"/>
          <p:cNvPicPr/>
          <p:nvPr/>
        </p:nvPicPr>
        <p:blipFill>
          <a:blip r:embed="rId6"/>
          <a:stretch/>
        </p:blipFill>
        <p:spPr>
          <a:xfrm>
            <a:off x="2494080" y="4724280"/>
            <a:ext cx="2963880" cy="16718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2852640" y="404640"/>
            <a:ext cx="60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люстрації до твору «Максим Гримач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5" descr=""/>
          <p:cNvPicPr/>
          <p:nvPr/>
        </p:nvPicPr>
        <p:blipFill>
          <a:blip r:embed="rId7"/>
          <a:stretch/>
        </p:blipFill>
        <p:spPr>
          <a:xfrm>
            <a:off x="2082960" y="1879560"/>
            <a:ext cx="19144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771640" y="2637000"/>
            <a:ext cx="42688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тика творчост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життя ді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коханн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побут доросли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сите й тупе існування міщан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фальш ченці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паразитичне животіння дворя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трагізм життя селянства за часів кріпаччини («Горпина»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боротьба проти кріпацтва («Ледащиця», «Інститутка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"/>
          <p:cNvPicPr/>
          <p:nvPr/>
        </p:nvPicPr>
        <p:blipFill>
          <a:blip r:embed="rId1"/>
          <a:stretch/>
        </p:blipFill>
        <p:spPr>
          <a:xfrm>
            <a:off x="-66600" y="0"/>
            <a:ext cx="2100240" cy="68277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2"/>
          <a:stretch/>
        </p:blipFill>
        <p:spPr>
          <a:xfrm>
            <a:off x="6585120" y="355680"/>
            <a:ext cx="240660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268360" y="2940120"/>
            <a:ext cx="66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внесення нових жанрів і т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звернення до фольклорних традиці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форма розповіді: у творах немає спеціального оповідача, є мистецький. Читач дізнається про все з уст народ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твори написані пісенною ритмізованою мовою з різноманітними    інтонаціями, багатством синонімі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Марко Вовчок — основоположниця дитячої української проз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 зміцнення основи української соціально-побутової проз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-її творчості характерні висока ідейність, висока художність творів тощ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22320" y="12600"/>
            <a:ext cx="2101680" cy="683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Валентина\Desktop\77-8-2.jpg"/>
          <p:cNvPicPr/>
          <p:nvPr/>
        </p:nvPicPr>
        <p:blipFill>
          <a:blip r:embed="rId2"/>
          <a:stretch/>
        </p:blipFill>
        <p:spPr>
          <a:xfrm>
            <a:off x="6846840" y="836640"/>
            <a:ext cx="2046240" cy="2773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484360" y="186372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Calibri"/>
              </a:rPr>
              <a:t>Особливості творчост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56000" y="907920"/>
            <a:ext cx="4103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 творчістю Марка Вовчка зростає міжнародна роль української літератури. За свідченням Петка Тодорова, проза письменниці у 60 — 70-х рр. XIX ст. мала вирішальний вплив на розвиток болгарської белетристики. Твори Марка Вовчка за її життя, починаючи з 1859 р., з'являються в чеських, болгарських, польських, сербських, словенських перекладах, виходять у Франції, Англії, Німеччині, Італії та інших європейських країн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6875640" y="126036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"/>
          <p:cNvPicPr/>
          <p:nvPr/>
        </p:nvPicPr>
        <p:blipFill>
          <a:blip r:embed="rId2"/>
          <a:stretch/>
        </p:blipFill>
        <p:spPr>
          <a:xfrm>
            <a:off x="0" y="55440"/>
            <a:ext cx="2092320" cy="6802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2556000" y="18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начення творч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4168800" y="765000"/>
            <a:ext cx="272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о Вовчок збагатила українську літературу жанрам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ціально-проблем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овідання («Козачка», «Одарка», «Горпина», «Ледащиця», «Два син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), балад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овідання («Чари», «Максим Гримач», «Данило Гурч»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ціальної повіст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Інститутка»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ічного оповідання й повісті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Павло Чорнокрил», «Три дол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»), соціальної казки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Дев'ять братів і десята сестриця Галя»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удожнього нарису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«Листи з Парижа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Users\Валентина\Desktop\220px-Marko_Vovchok.jpg"/>
          <p:cNvPicPr/>
          <p:nvPr/>
        </p:nvPicPr>
        <p:blipFill>
          <a:blip r:embed="rId1"/>
          <a:stretch/>
        </p:blipFill>
        <p:spPr>
          <a:xfrm>
            <a:off x="6873840" y="965160"/>
            <a:ext cx="2095560" cy="278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Валентина\Desktop\77-8-1.jpg"/>
          <p:cNvPicPr/>
          <p:nvPr/>
        </p:nvPicPr>
        <p:blipFill>
          <a:blip r:embed="rId2"/>
          <a:stretch/>
        </p:blipFill>
        <p:spPr>
          <a:xfrm>
            <a:off x="2097000" y="355680"/>
            <a:ext cx="2071800" cy="2768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2120760" cy="68961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2120760" y="3284640"/>
            <a:ext cx="216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.Д.Лобач-Жученко-другий чолові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116080" cy="6883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2411280" y="26352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динок-музей у Богуслав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Валентина\Desktop\ContentImageHandler.jpeg"/>
          <p:cNvPicPr/>
          <p:nvPr/>
        </p:nvPicPr>
        <p:blipFill>
          <a:blip r:embed="rId2"/>
          <a:stretch/>
        </p:blipFill>
        <p:spPr>
          <a:xfrm>
            <a:off x="5664240" y="4824360"/>
            <a:ext cx="2663640" cy="1774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3"/>
          <a:stretch/>
        </p:blipFill>
        <p:spPr>
          <a:xfrm>
            <a:off x="2185920" y="2932200"/>
            <a:ext cx="2333520" cy="17510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4"/>
          <a:stretch/>
        </p:blipFill>
        <p:spPr>
          <a:xfrm>
            <a:off x="5843520" y="1054080"/>
            <a:ext cx="2305080" cy="3071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Валентина\Desktop\ContentImageHandler.jpeg"/>
          <p:cNvPicPr/>
          <p:nvPr/>
        </p:nvPicPr>
        <p:blipFill>
          <a:blip r:embed="rId5"/>
          <a:stretch/>
        </p:blipFill>
        <p:spPr>
          <a:xfrm>
            <a:off x="2127240" y="4862520"/>
            <a:ext cx="2392200" cy="1793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6" descr=""/>
          <p:cNvPicPr/>
          <p:nvPr/>
        </p:nvPicPr>
        <p:blipFill>
          <a:blip r:embed="rId6"/>
          <a:stretch/>
        </p:blipFill>
        <p:spPr>
          <a:xfrm>
            <a:off x="2225520" y="981000"/>
            <a:ext cx="23702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556000" y="62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5581800" y="4351320"/>
            <a:ext cx="2620800" cy="1965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"/>
          <p:cNvPicPr/>
          <p:nvPr/>
        </p:nvPicPr>
        <p:blipFill>
          <a:blip r:embed="rId2"/>
          <a:stretch/>
        </p:blipFill>
        <p:spPr>
          <a:xfrm>
            <a:off x="2556000" y="4336920"/>
            <a:ext cx="2620800" cy="1967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3"/>
          <a:stretch/>
        </p:blipFill>
        <p:spPr>
          <a:xfrm>
            <a:off x="0" y="0"/>
            <a:ext cx="2109960" cy="686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Валентина\Desktop\2012.01_th.06--p1090290.jpg"/>
          <p:cNvPicPr/>
          <p:nvPr/>
        </p:nvPicPr>
        <p:blipFill>
          <a:blip r:embed="rId4"/>
          <a:stretch/>
        </p:blipFill>
        <p:spPr>
          <a:xfrm>
            <a:off x="4390920" y="1092240"/>
            <a:ext cx="3811680" cy="2857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2268360" y="1268280"/>
            <a:ext cx="20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0 серпня 1907 року у Нальчи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мерла  письменниця , де 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хов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C:\Users\Валентина\Desktop\2012.01_th.06--p1090337.jpg"/>
          <p:cNvPicPr/>
          <p:nvPr/>
        </p:nvPicPr>
        <p:blipFill>
          <a:blip r:embed="rId1"/>
          <a:stretch/>
        </p:blipFill>
        <p:spPr>
          <a:xfrm>
            <a:off x="5621400" y="1122480"/>
            <a:ext cx="3190680" cy="2392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" descr=""/>
          <p:cNvPicPr/>
          <p:nvPr/>
        </p:nvPicPr>
        <p:blipFill>
          <a:blip r:embed="rId2"/>
          <a:stretch/>
        </p:blipFill>
        <p:spPr>
          <a:xfrm>
            <a:off x="2170080" y="112248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132000" y="495360"/>
            <a:ext cx="41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6" descr=""/>
          <p:cNvPicPr/>
          <p:nvPr/>
        </p:nvPicPr>
        <p:blipFill>
          <a:blip r:embed="rId3"/>
          <a:stretch/>
        </p:blipFill>
        <p:spPr>
          <a:xfrm>
            <a:off x="49320" y="14400"/>
            <a:ext cx="21096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Users\Валентина\Desktop\2012.01_th.06--p1090316.jpg"/>
          <p:cNvPicPr/>
          <p:nvPr/>
        </p:nvPicPr>
        <p:blipFill>
          <a:blip r:embed="rId4"/>
          <a:stretch/>
        </p:blipFill>
        <p:spPr>
          <a:xfrm>
            <a:off x="2627280" y="3749760"/>
            <a:ext cx="2182680" cy="29098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"/>
          <p:cNvPicPr/>
          <p:nvPr/>
        </p:nvPicPr>
        <p:blipFill>
          <a:blip r:embed="rId5"/>
          <a:stretch/>
        </p:blipFill>
        <p:spPr>
          <a:xfrm>
            <a:off x="5621400" y="4008600"/>
            <a:ext cx="31906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-63360"/>
            <a:ext cx="2124000" cy="6906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5292720" y="334800"/>
            <a:ext cx="3382920" cy="61102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 flipV="1" rot="10800000">
            <a:off x="2124000" y="142992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країнська письменниц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і поете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реклада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"/>
          <p:cNvPicPr/>
          <p:nvPr/>
        </p:nvPicPr>
        <p:blipFill>
          <a:blip r:embed="rId1"/>
          <a:stretch/>
        </p:blipFill>
        <p:spPr>
          <a:xfrm>
            <a:off x="0" y="-49320"/>
            <a:ext cx="2124000" cy="6907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2"/>
          <a:stretch/>
        </p:blipFill>
        <p:spPr>
          <a:xfrm>
            <a:off x="4797360" y="1077840"/>
            <a:ext cx="3430800" cy="2121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3"/>
          <a:stretch/>
        </p:blipFill>
        <p:spPr>
          <a:xfrm>
            <a:off x="4932360" y="37735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"/>
          <p:cNvPicPr/>
          <p:nvPr/>
        </p:nvPicPr>
        <p:blipFill>
          <a:blip r:embed="rId4"/>
          <a:stretch/>
        </p:blipFill>
        <p:spPr>
          <a:xfrm>
            <a:off x="2411280" y="1077840"/>
            <a:ext cx="1967040" cy="2621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"/>
          <p:cNvPicPr/>
          <p:nvPr/>
        </p:nvPicPr>
        <p:blipFill>
          <a:blip r:embed="rId5"/>
          <a:stretch/>
        </p:blipFill>
        <p:spPr>
          <a:xfrm>
            <a:off x="2200320" y="4437000"/>
            <a:ext cx="235404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2405160" y="34776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Валентина\Desktop\2012.01_th.06--p1090356.jpg"/>
          <p:cNvPicPr/>
          <p:nvPr/>
        </p:nvPicPr>
        <p:blipFill>
          <a:blip r:embed="rId1"/>
          <a:stretch/>
        </p:blipFill>
        <p:spPr>
          <a:xfrm>
            <a:off x="2405160" y="3860640"/>
            <a:ext cx="2982960" cy="223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Users\Валентина\Desktop\2012.01_th.06--p1090342.jpg"/>
          <p:cNvPicPr/>
          <p:nvPr/>
        </p:nvPicPr>
        <p:blipFill>
          <a:blip r:embed="rId2"/>
          <a:stretch/>
        </p:blipFill>
        <p:spPr>
          <a:xfrm>
            <a:off x="5670720" y="1096920"/>
            <a:ext cx="3109680" cy="23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Валентина\Desktop\images.jpeg"/>
          <p:cNvPicPr/>
          <p:nvPr/>
        </p:nvPicPr>
        <p:blipFill>
          <a:blip r:embed="rId3"/>
          <a:stretch/>
        </p:blipFill>
        <p:spPr>
          <a:xfrm>
            <a:off x="2398680" y="1187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Валентина\Desktop\2012.01_th.06--p1090336.jpg"/>
          <p:cNvPicPr/>
          <p:nvPr/>
        </p:nvPicPr>
        <p:blipFill>
          <a:blip r:embed="rId4"/>
          <a:stretch/>
        </p:blipFill>
        <p:spPr>
          <a:xfrm>
            <a:off x="5672160" y="3860640"/>
            <a:ext cx="2976480" cy="223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3564000" y="260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узей-садиба у Нальч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2" descr=""/>
          <p:cNvPicPr/>
          <p:nvPr/>
        </p:nvPicPr>
        <p:blipFill>
          <a:blip r:embed="rId5"/>
          <a:stretch/>
        </p:blipFill>
        <p:spPr>
          <a:xfrm>
            <a:off x="0" y="0"/>
            <a:ext cx="210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2131920" cy="6934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" descr=""/>
          <p:cNvPicPr/>
          <p:nvPr/>
        </p:nvPicPr>
        <p:blipFill>
          <a:blip r:embed="rId2"/>
          <a:stretch/>
        </p:blipFill>
        <p:spPr>
          <a:xfrm>
            <a:off x="5076720" y="792000"/>
            <a:ext cx="3382920" cy="238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Валентина\Desktop\379px-Марко_Вовчок.jpg"/>
          <p:cNvPicPr/>
          <p:nvPr/>
        </p:nvPicPr>
        <p:blipFill>
          <a:blip r:embed="rId3"/>
          <a:stretch/>
        </p:blipFill>
        <p:spPr>
          <a:xfrm>
            <a:off x="2411280" y="1955880"/>
            <a:ext cx="2238480" cy="3535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"/>
          <p:cNvPicPr/>
          <p:nvPr/>
        </p:nvPicPr>
        <p:blipFill>
          <a:blip r:embed="rId4"/>
          <a:stretch/>
        </p:blipFill>
        <p:spPr>
          <a:xfrm>
            <a:off x="5076720" y="4130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-155520" y="0"/>
            <a:ext cx="2103480" cy="68436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" descr=""/>
          <p:cNvPicPr/>
          <p:nvPr/>
        </p:nvPicPr>
        <p:blipFill>
          <a:blip r:embed="rId2"/>
          <a:stretch/>
        </p:blipFill>
        <p:spPr>
          <a:xfrm>
            <a:off x="2155680" y="142704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"/>
          <p:cNvPicPr/>
          <p:nvPr/>
        </p:nvPicPr>
        <p:blipFill>
          <a:blip r:embed="rId3"/>
          <a:stretch/>
        </p:blipFill>
        <p:spPr>
          <a:xfrm>
            <a:off x="5710320" y="142704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"/>
          <p:cNvPicPr/>
          <p:nvPr/>
        </p:nvPicPr>
        <p:blipFill>
          <a:blip r:embed="rId4"/>
          <a:stretch/>
        </p:blipFill>
        <p:spPr>
          <a:xfrm>
            <a:off x="2125800" y="4032360"/>
            <a:ext cx="3238200" cy="24303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"/>
          <p:cNvPicPr/>
          <p:nvPr/>
        </p:nvPicPr>
        <p:blipFill>
          <a:blip r:embed="rId5"/>
          <a:stretch/>
        </p:blipFill>
        <p:spPr>
          <a:xfrm>
            <a:off x="5778360" y="4095720"/>
            <a:ext cx="3073680" cy="2303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1763640" y="33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2340000" y="333360"/>
            <a:ext cx="651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адри із документального фільму «Фатальна жінка» за участю Н.Сумсько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1803240" y="892080"/>
            <a:ext cx="3225960" cy="24195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1797120" y="3668760"/>
            <a:ext cx="3203640" cy="2401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3"/>
          <a:stretch/>
        </p:blipFill>
        <p:spPr>
          <a:xfrm>
            <a:off x="5148360" y="892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4"/>
          <a:stretch/>
        </p:blipFill>
        <p:spPr>
          <a:xfrm>
            <a:off x="5160960" y="3645000"/>
            <a:ext cx="3205080" cy="24033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5"/>
          <a:stretch/>
        </p:blipFill>
        <p:spPr>
          <a:xfrm>
            <a:off x="-290520" y="0"/>
            <a:ext cx="21258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1908000" y="797040"/>
            <a:ext cx="3340440" cy="2506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"/>
          <p:cNvPicPr/>
          <p:nvPr/>
        </p:nvPicPr>
        <p:blipFill>
          <a:blip r:embed="rId2"/>
          <a:stretch/>
        </p:blipFill>
        <p:spPr>
          <a:xfrm>
            <a:off x="5381640" y="797040"/>
            <a:ext cx="3335400" cy="2501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2717640" y="3645000"/>
            <a:ext cx="3708720" cy="27813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5" descr=""/>
          <p:cNvPicPr/>
          <p:nvPr/>
        </p:nvPicPr>
        <p:blipFill>
          <a:blip r:embed="rId4"/>
          <a:stretch/>
        </p:blipFill>
        <p:spPr>
          <a:xfrm>
            <a:off x="-44280" y="0"/>
            <a:ext cx="21110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94040" y="3068640"/>
            <a:ext cx="513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исала українською, російською,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польською, англійською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анцузькою, німецькою мов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ша збірка оповідань вийшла українською мовою у 1857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воїх творах засуджувала кріпосне право. Описувала історичне минуле Украї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90360"/>
            <a:ext cx="2052720" cy="6677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2484360" y="333360"/>
            <a:ext cx="1677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5219640" y="684360"/>
            <a:ext cx="3708360" cy="2701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411280" y="2492280"/>
            <a:ext cx="339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ладала з польської (Болеслав Прус), французької (Віктор Гюго, Жюль Верн) та інших 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-3240" y="-87480"/>
            <a:ext cx="213516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2286000" y="269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ла знайома з Т. Шевченком, П. Кулішем, М. Костомаровим, І. Тургенєвим, Жулем Верн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2106720" cy="6850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2100240" y="368280"/>
            <a:ext cx="1660680" cy="232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Валентина\Desktop\83ddb9e72a975180097bfa29552.jpg"/>
          <p:cNvPicPr/>
          <p:nvPr/>
        </p:nvPicPr>
        <p:blipFill>
          <a:blip r:embed="rId3"/>
          <a:stretch/>
        </p:blipFill>
        <p:spPr>
          <a:xfrm>
            <a:off x="2227320" y="4149720"/>
            <a:ext cx="1633320" cy="227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Валентина\Desktop\i.jpeg"/>
          <p:cNvPicPr/>
          <p:nvPr/>
        </p:nvPicPr>
        <p:blipFill>
          <a:blip r:embed="rId4"/>
          <a:stretch/>
        </p:blipFill>
        <p:spPr>
          <a:xfrm>
            <a:off x="4425840" y="4149720"/>
            <a:ext cx="1712880" cy="227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алентина\Desktop\m_23088.jpg"/>
          <p:cNvPicPr/>
          <p:nvPr/>
        </p:nvPicPr>
        <p:blipFill>
          <a:blip r:embed="rId5"/>
          <a:stretch/>
        </p:blipFill>
        <p:spPr>
          <a:xfrm>
            <a:off x="4110120" y="368280"/>
            <a:ext cx="234612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6"/>
          <a:stretch/>
        </p:blipFill>
        <p:spPr>
          <a:xfrm>
            <a:off x="6873840" y="1460520"/>
            <a:ext cx="2106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643280" y="33336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Є в Тараса Шевченка теплі, щирі слова, присвячені письменниц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Господь посла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бе нам, кроткого проро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ичителя жестоки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дей неситих. Світе мій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я ти зоренько святая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я ти сило молодая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іти на мене, і огрі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І оживи моє побит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оге серце, неукрите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2106720" cy="68500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2843280" y="4037040"/>
            <a:ext cx="401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я прижиттєва збірка видання творів Т. Шевченка "Кобзар"  була особливо цінною для письменниці, бо ма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л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святу їй, Марко Вовчок, від великого поета України: "Моїй єдиній доні Марусі Маркович і рідний, і хрещений батько Тарас Шевченко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2106720" y="1484280"/>
            <a:ext cx="27320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427640" y="2060640"/>
            <a:ext cx="47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о Вовчок (літературний псевдонім Марії Олександрівни Вілінської) народилася 10 (22) грудня 1833 р. в маєтку Єкатерининське Єлецького повіту Орловської губернії у збіднілій дворянській сім'ї. Виховувалася в приватному пансіоні в Харкові (1845 р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формуванні поглядів письменниці позначилося тривале перебування в інтелігентних сім'ях родичів, зокрема батьків Д. І. Писарєва (пізніше — видатного критика й близького друга письменниці). В салоні її тітки К. П.Мардовінової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0" y="-36360"/>
            <a:ext cx="2124000" cy="690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Валентина\Desktop\314427_7.jpg"/>
          <p:cNvPicPr/>
          <p:nvPr/>
        </p:nvPicPr>
        <p:blipFill>
          <a:blip r:embed="rId2"/>
          <a:stretch/>
        </p:blipFill>
        <p:spPr>
          <a:xfrm>
            <a:off x="2124000" y="476280"/>
            <a:ext cx="2143080" cy="2522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2268360" y="29988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митро Писарє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"/>
          <p:cNvPicPr/>
          <p:nvPr/>
        </p:nvPicPr>
        <p:blipFill>
          <a:blip r:embed="rId1"/>
          <a:stretch/>
        </p:blipFill>
        <p:spPr>
          <a:xfrm>
            <a:off x="1763640" y="4079880"/>
            <a:ext cx="2013120" cy="2682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4788000" y="292428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важаючи на те що до першої збірки «Народних оповідань» увійшло одинадцять невеликих творів (серед них оповідання «Сестра», "Козачка, «Чумак», «Одарка», «Сон», «Панська воля», «Викуп»), вона справила велике враження на літературно-громадську дум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2"/>
          <a:stretch/>
        </p:blipFill>
        <p:spPr>
          <a:xfrm>
            <a:off x="-23760" y="1440"/>
            <a:ext cx="2117520" cy="6890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3"/>
          <a:stretch/>
        </p:blipFill>
        <p:spPr>
          <a:xfrm>
            <a:off x="2400480" y="2166840"/>
            <a:ext cx="2085840" cy="20862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"/>
          <p:cNvPicPr/>
          <p:nvPr/>
        </p:nvPicPr>
        <p:blipFill>
          <a:blip r:embed="rId4"/>
          <a:stretch/>
        </p:blipFill>
        <p:spPr>
          <a:xfrm>
            <a:off x="5041800" y="14400"/>
            <a:ext cx="176220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"/>
          <p:cNvPicPr/>
          <p:nvPr/>
        </p:nvPicPr>
        <p:blipFill>
          <a:blip r:embed="rId5"/>
          <a:stretch/>
        </p:blipFill>
        <p:spPr>
          <a:xfrm>
            <a:off x="2232000" y="225360"/>
            <a:ext cx="1881360" cy="18241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6"/>
          <a:stretch/>
        </p:blipFill>
        <p:spPr>
          <a:xfrm>
            <a:off x="3443400" y="4500720"/>
            <a:ext cx="1339560" cy="2261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"/>
          <p:cNvPicPr/>
          <p:nvPr/>
        </p:nvPicPr>
        <p:blipFill>
          <a:blip r:embed="rId7"/>
          <a:stretch/>
        </p:blipFill>
        <p:spPr>
          <a:xfrm>
            <a:off x="6553080" y="4902120"/>
            <a:ext cx="1513080" cy="195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Валентина\Desktop\04.jpg"/>
          <p:cNvPicPr/>
          <p:nvPr/>
        </p:nvPicPr>
        <p:blipFill>
          <a:blip r:embed="rId8"/>
          <a:stretch/>
        </p:blipFill>
        <p:spPr>
          <a:xfrm>
            <a:off x="6994440" y="114480"/>
            <a:ext cx="15382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4344840" y="336600"/>
            <a:ext cx="461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1867 — 1878 рр. найяскравіше виявився талант письменниці як російського романіста. Нею створено або завершено російські романи «Живая душа», «Записки причетника», «В глуши», а також повісті «Теплое гнездышко», «Сельская идиллия» (опубліковані в «Отечественных записках»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Валентина\Desktop\73-8-2.jpg"/>
          <p:cNvPicPr/>
          <p:nvPr/>
        </p:nvPicPr>
        <p:blipFill>
          <a:blip r:embed="rId1"/>
          <a:stretch/>
        </p:blipFill>
        <p:spPr>
          <a:xfrm>
            <a:off x="2187720" y="336600"/>
            <a:ext cx="2157120" cy="2978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4680" y="7920"/>
            <a:ext cx="2124000" cy="6904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"/>
          <p:cNvPicPr/>
          <p:nvPr/>
        </p:nvPicPr>
        <p:blipFill>
          <a:blip r:embed="rId3"/>
          <a:stretch/>
        </p:blipFill>
        <p:spPr>
          <a:xfrm>
            <a:off x="5445000" y="3330720"/>
            <a:ext cx="2359080" cy="3146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2771640" y="522936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Богдан Маркович-син Марії Вілінсько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128680" y="3460680"/>
            <a:ext cx="25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панас Маркови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 ним Марко Вовчок збирала етнографічні матеріали про Украї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9:16:15Z</dcterms:created>
  <dc:creator>Валентина</dc:creator>
  <dc:description/>
  <dc:language>en-US</dc:language>
  <cp:lastModifiedBy>Андрій</cp:lastModifiedBy>
  <cp:lastPrinted>2012-03-31T12:42:33Z</cp:lastPrinted>
  <dcterms:modified xsi:type="dcterms:W3CDTF">2012-04-01T18:33:04Z</dcterms:modified>
  <cp:revision>61</cp:revision>
  <dc:subject/>
  <dc:title>Презентация PowerPoint</dc:title>
</cp:coreProperties>
</file>